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B1FE-5359-4FD7-8554-9BF1082A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7E4E-6469-4DC9-B306-F09A4B6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245C-20DF-46A5-BDEA-0E8A6F27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10CB-4265-40C8-82F8-C8DCCEA7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BBEC-5FB8-4932-A3D2-39AB5BEC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6D0D-B67F-4EED-8308-301D0B6C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9A90-3B00-4D49-85DB-29219B1F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1DCD-E50D-4B0E-ADCA-8D797CD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7B09-10BF-495F-AA11-A5936285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F505-7AD0-4D41-9E6E-EA117F65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E078-6BFA-41FB-9ECE-3D9F296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98D4-0E14-4F00-9554-43FD9BF8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F25C-4C40-467F-837B-70EAFBD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405C-33BD-43CA-BF20-93B776D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C72A-04ED-4EDE-A5B5-819ECD6E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581-F77E-4618-8529-FED173C6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E79B-0CCF-4F4C-9EED-B4A38AB4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34B0-6BB4-4572-9ED6-5625C19E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07FA-404F-4832-A9F5-262D6A42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A19F-5F01-4D49-B20A-25580F33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2E3F-B61B-4F37-ADC9-95C9C337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B33E-5BD5-459D-AC18-68F995BB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1862-F6EA-4093-8AC8-CC32A05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1C64-E1F3-42D0-AFFA-677F88E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12Z</dcterms:modified>
  <cp:revision>3</cp:revision>
  <dc:subject/>
  <dc:title>幻灯片 1</dc:title>
</cp:coreProperties>
</file>